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60DA-1A8C-4DEE-83FB-4244E58B1AB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8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orkshop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Case Study - Introduc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pp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25 KLF wind load to each girder (one load case for each direction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0 PSF live load over entire 60 ft x 25 ft plan area of th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PSF dead load to each in-fill bea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structure to include self weight of all structural members in DL loading condition for following load cases and combin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on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L + LL + WL (North Direc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ame Member Siz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lumns are W27x194 members. The web is oriented running North / South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North / South (the 25 foot span) are W24x68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Girders running East / West (the 30 foot span) are W21x44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-fill beams are W16x36 member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angle braces are double angles, L8x8x¾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horizontal bracing members are WT6x11 structural tee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dded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main members are made from A572 Grade 50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connection material is made from A36 material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gle braces are made from A36 material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bolts are to be A325 ¾" or 1"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ll steel will be painted using a Zinc-rich paint.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" y="9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692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692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7680" y="446580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9692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63520" y="446580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24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7680" y="4248000"/>
            <a:ext cx="79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6" y="7"/>
                </a:lnTo>
                <a:lnTo>
                  <a:pt x="9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5560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9692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63520" y="4248000"/>
            <a:ext cx="97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6352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24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96920" y="42354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6920" y="447516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22220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22220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88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2288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71840" y="446580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22880" y="4475160"/>
            <a:ext cx="48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9480" y="446580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9740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71840" y="4248000"/>
            <a:ext cx="972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1" y="13"/>
                </a:lnTo>
                <a:lnTo>
                  <a:pt x="15" y="7"/>
                </a:lnTo>
                <a:lnTo>
                  <a:pt x="7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38156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22880" y="42480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4248000"/>
            <a:ext cx="7920" cy="7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23" y="0"/>
                </a:moveTo>
                <a:lnTo>
                  <a:pt x="14" y="1"/>
                </a:lnTo>
                <a:lnTo>
                  <a:pt x="7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8948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9740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2288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2288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48160" y="44748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448160" y="423504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547040" y="423540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7040" y="44877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9780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7040" y="4475160"/>
            <a:ext cx="507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13640" y="446580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3000" y="4475160"/>
            <a:ext cx="493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9780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22"/>
                </a:moveTo>
                <a:lnTo>
                  <a:pt x="20" y="13"/>
                </a:lnTo>
                <a:lnTo>
                  <a:pt x="16" y="7"/>
                </a:lnTo>
                <a:lnTo>
                  <a:pt x="8" y="1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607160" y="4255560"/>
            <a:ext cx="180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7040" y="42480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3640" y="4248000"/>
            <a:ext cx="9360" cy="7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22" y="0"/>
                </a:moveTo>
                <a:lnTo>
                  <a:pt x="14" y="1"/>
                </a:lnTo>
                <a:lnTo>
                  <a:pt x="6" y="7"/>
                </a:lnTo>
                <a:lnTo>
                  <a:pt x="2" y="13"/>
                </a:lnTo>
                <a:lnTo>
                  <a:pt x="0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13640" y="4255560"/>
            <a:ext cx="1440" cy="2098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42480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7040" y="423540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47040" y="4475160"/>
            <a:ext cx="144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672320" y="447480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72320" y="4235040"/>
            <a:ext cx="1800" cy="1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9692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9692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7680" y="17780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9" y="21"/>
                </a:lnTo>
                <a:lnTo>
                  <a:pt x="16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692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63520" y="17780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324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7680" y="1558800"/>
            <a:ext cx="79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6" y="7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15560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9692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63520" y="1558800"/>
            <a:ext cx="97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6352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96920" y="15476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96920" y="178740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2220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2220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32288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2288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71840" y="17780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7" y="21"/>
                </a:lnTo>
                <a:lnTo>
                  <a:pt x="15" y="17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22880" y="17874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89480" y="17780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0"/>
                </a:moveTo>
                <a:lnTo>
                  <a:pt x="2" y="9"/>
                </a:lnTo>
                <a:lnTo>
                  <a:pt x="7" y="17"/>
                </a:lnTo>
                <a:lnTo>
                  <a:pt x="14" y="21"/>
                </a:lnTo>
                <a:lnTo>
                  <a:pt x="23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9740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71840" y="1558800"/>
            <a:ext cx="972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1" y="14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8156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22880" y="1558800"/>
            <a:ext cx="489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89480" y="1558800"/>
            <a:ext cx="7920" cy="972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0"/>
                </a:move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38948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9740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288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2288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448160" y="17870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448160" y="154728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547040" y="154764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7040" y="1798560"/>
            <a:ext cx="12528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9780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547040" y="17874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13640" y="1778040"/>
            <a:ext cx="936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2" y="9"/>
                </a:lnTo>
                <a:lnTo>
                  <a:pt x="6" y="17"/>
                </a:lnTo>
                <a:lnTo>
                  <a:pt x="14" y="21"/>
                </a:lnTo>
                <a:lnTo>
                  <a:pt x="22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3000" y="17874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9780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23"/>
                </a:moveTo>
                <a:lnTo>
                  <a:pt x="20" y="14"/>
                </a:lnTo>
                <a:lnTo>
                  <a:pt x="16" y="7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607160" y="1568520"/>
            <a:ext cx="180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7040" y="1558800"/>
            <a:ext cx="507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13640" y="1558800"/>
            <a:ext cx="9360" cy="9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22" y="0"/>
                </a:move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3"/>
                </a:lnTo>
              </a:path>
            </a:pathLst>
          </a:custGeom>
          <a:noFill/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613640" y="1568520"/>
            <a:ext cx="1440" cy="209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3000" y="1558800"/>
            <a:ext cx="493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7040" y="154764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7040" y="1787400"/>
            <a:ext cx="144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7672320" y="178704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672320" y="1547280"/>
            <a:ext cx="1800" cy="1116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48160" y="436104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22200" y="436104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48160" y="1673280"/>
            <a:ext cx="3098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2200" y="1673280"/>
            <a:ext cx="31006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16064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23524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09840" y="1779120"/>
            <a:ext cx="180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84800" y="1886040"/>
            <a:ext cx="144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594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535800" y="177912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610400" y="1886040"/>
            <a:ext cx="1800" cy="2263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83080" y="1757520"/>
            <a:ext cx="302904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57480" y="1757520"/>
            <a:ext cx="3030480" cy="25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0920" y="252360"/>
            <a:ext cx="1440" cy="604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94360" y="252360"/>
            <a:ext cx="211320" cy="184320"/>
          </a:xfrm>
          <a:custGeom>
            <a:avLst/>
            <a:gdLst/>
            <a:ahLst/>
            <a:rect l="l" t="t" r="r" b="b"/>
            <a:pathLst>
              <a:path w="534" h="461">
                <a:moveTo>
                  <a:pt x="267" y="0"/>
                </a:moveTo>
                <a:lnTo>
                  <a:pt x="534" y="461"/>
                </a:lnTo>
                <a:lnTo>
                  <a:pt x="0" y="461"/>
                </a:lnTo>
                <a:lnTo>
                  <a:pt x="267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00920" y="252360"/>
            <a:ext cx="1440" cy="2034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00920" y="455760"/>
            <a:ext cx="14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39000" y="873000"/>
            <a:ext cx="13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2160" y="555480"/>
            <a:ext cx="31752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89560" y="4237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31200" y="423720"/>
            <a:ext cx="22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99760" y="0"/>
            <a:ext cx="18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8900000">
            <a:off x="4330080" y="91080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573320" y="9298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8900000">
            <a:off x="433008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8900000">
            <a:off x="7772040" y="366516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8900000">
            <a:off x="-9720" y="456228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28120" y="13701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54080" y="13795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2812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080" y="43750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1 x 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4906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374508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942240" y="279864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6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6200000">
            <a:off x="1595520" y="248256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267012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5126040" y="332028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0000">
            <a:off x="2301480" y="262404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186600" y="2452320"/>
            <a:ext cx="102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16 x 3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340000">
            <a:off x="5480280" y="2674080"/>
            <a:ext cx="1023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T6 x 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00000">
            <a:off x="1139400" y="91404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580600" y="4195800"/>
            <a:ext cx="125280" cy="16524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415"/>
                </a:moveTo>
                <a:lnTo>
                  <a:pt x="0" y="0"/>
                </a:lnTo>
                <a:lnTo>
                  <a:pt x="159" y="208"/>
                </a:lnTo>
                <a:lnTo>
                  <a:pt x="318" y="0"/>
                </a:lnTo>
                <a:lnTo>
                  <a:pt x="159" y="41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80600" y="1673280"/>
            <a:ext cx="125280" cy="164880"/>
          </a:xfrm>
          <a:custGeom>
            <a:avLst/>
            <a:gdLst/>
            <a:ahLst/>
            <a:rect l="l" t="t" r="r" b="b"/>
            <a:pathLst>
              <a:path w="318" h="415">
                <a:moveTo>
                  <a:pt x="159" y="0"/>
                </a:moveTo>
                <a:lnTo>
                  <a:pt x="318" y="415"/>
                </a:lnTo>
                <a:lnTo>
                  <a:pt x="159" y="207"/>
                </a:lnTo>
                <a:lnTo>
                  <a:pt x="0" y="415"/>
                </a:lnTo>
                <a:lnTo>
                  <a:pt x="159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59800" y="436104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59800" y="1673280"/>
            <a:ext cx="9540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95840" y="2857680"/>
            <a:ext cx="642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5' 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8636040" y="1692000"/>
            <a:ext cx="7920" cy="266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60640" y="5448240"/>
            <a:ext cx="16344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21000" y="5448240"/>
            <a:ext cx="163800" cy="12564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6064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395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160640" y="5511960"/>
            <a:ext cx="3224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6064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70000" y="4970520"/>
            <a:ext cx="16524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606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3524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6456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170000" y="5035680"/>
            <a:ext cx="106524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480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45520" y="5448240"/>
            <a:ext cx="164880" cy="12564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4800" y="4840200"/>
            <a:ext cx="1440" cy="741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6240" y="4782960"/>
            <a:ext cx="5040" cy="789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5120" y="521028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384800" y="5511960"/>
            <a:ext cx="3225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4496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395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254320" y="5035680"/>
            <a:ext cx="105552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1000" y="4970520"/>
            <a:ext cx="163800" cy="127080"/>
          </a:xfrm>
          <a:custGeom>
            <a:avLst/>
            <a:gdLst/>
            <a:ahLst/>
            <a:rect l="l" t="t" r="r" b="b"/>
            <a:pathLst>
              <a:path w="414" h="318">
                <a:moveTo>
                  <a:pt x="414" y="159"/>
                </a:moveTo>
                <a:lnTo>
                  <a:pt x="0" y="318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11640" y="4821120"/>
            <a:ext cx="7920" cy="2826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4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14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281400" y="5025960"/>
            <a:ext cx="10461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8480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596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84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594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384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5940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70560" y="4970520"/>
            <a:ext cx="1652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8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594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35800" y="4827600"/>
            <a:ext cx="1440" cy="27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651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459400" y="5025960"/>
            <a:ext cx="108576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35800" y="4970520"/>
            <a:ext cx="16344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0" y="159"/>
                </a:moveTo>
                <a:lnTo>
                  <a:pt x="415" y="0"/>
                </a:lnTo>
                <a:lnTo>
                  <a:pt x="208" y="159"/>
                </a:lnTo>
                <a:lnTo>
                  <a:pt x="415" y="318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45520" y="4970520"/>
            <a:ext cx="164880" cy="127080"/>
          </a:xfrm>
          <a:custGeom>
            <a:avLst/>
            <a:gdLst/>
            <a:ahLst/>
            <a:rect l="l" t="t" r="r" b="b"/>
            <a:pathLst>
              <a:path w="415" h="318">
                <a:moveTo>
                  <a:pt x="415" y="159"/>
                </a:moveTo>
                <a:lnTo>
                  <a:pt x="0" y="318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35800" y="4840200"/>
            <a:ext cx="1440" cy="2635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9720" y="47340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1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535800" y="5025960"/>
            <a:ext cx="1074600" cy="79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04160" y="5767560"/>
            <a:ext cx="2213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Framing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390680" y="1797120"/>
            <a:ext cx="1634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51400" y="1797120"/>
            <a:ext cx="163440" cy="125280"/>
          </a:xfrm>
          <a:custGeom>
            <a:avLst/>
            <a:gdLst/>
            <a:ahLst/>
            <a:rect l="l" t="t" r="r" b="b"/>
            <a:pathLst>
              <a:path w="414" h="319">
                <a:moveTo>
                  <a:pt x="414" y="159"/>
                </a:moveTo>
                <a:lnTo>
                  <a:pt x="0" y="319"/>
                </a:lnTo>
                <a:lnTo>
                  <a:pt x="206" y="159"/>
                </a:lnTo>
                <a:lnTo>
                  <a:pt x="0" y="0"/>
                </a:lnTo>
                <a:lnTo>
                  <a:pt x="414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9068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6956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90680" y="1859040"/>
            <a:ext cx="32241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1484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0" y="159"/>
                </a:moveTo>
                <a:lnTo>
                  <a:pt x="415" y="0"/>
                </a:lnTo>
                <a:lnTo>
                  <a:pt x="207" y="159"/>
                </a:lnTo>
                <a:lnTo>
                  <a:pt x="415" y="319"/>
                </a:lnTo>
                <a:lnTo>
                  <a:pt x="0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75560" y="1797120"/>
            <a:ext cx="165240" cy="125280"/>
          </a:xfrm>
          <a:custGeom>
            <a:avLst/>
            <a:gdLst/>
            <a:ahLst/>
            <a:rect l="l" t="t" r="r" b="b"/>
            <a:pathLst>
              <a:path w="415" h="319">
                <a:moveTo>
                  <a:pt x="415" y="159"/>
                </a:moveTo>
                <a:lnTo>
                  <a:pt x="0" y="319"/>
                </a:lnTo>
                <a:lnTo>
                  <a:pt x="207" y="159"/>
                </a:lnTo>
                <a:lnTo>
                  <a:pt x="0" y="0"/>
                </a:lnTo>
                <a:lnTo>
                  <a:pt x="415" y="1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14840" y="1643040"/>
            <a:ext cx="1440" cy="7412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7842240" y="1695600"/>
            <a:ext cx="15840" cy="688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5520" y="1558800"/>
            <a:ext cx="32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30'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4840" y="1859040"/>
            <a:ext cx="322596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68040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390636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32320" y="3859920"/>
            <a:ext cx="116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W27 x 1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21392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4384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7664040" y="5478480"/>
            <a:ext cx="352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134892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4928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49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3028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37952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4928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9212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5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4000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430280" y="299844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4928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9520" y="2989440"/>
            <a:ext cx="97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8" y="21"/>
                </a:lnTo>
                <a:lnTo>
                  <a:pt x="16" y="17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4928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9212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5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4000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9212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89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9068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90680" y="2790720"/>
            <a:ext cx="6450120" cy="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574880" y="279072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5240" y="3003480"/>
            <a:ext cx="8100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5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65624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6054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1" y="14"/>
                </a:lnTo>
                <a:lnTo>
                  <a:pt x="17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524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1628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6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62600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65624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5240" y="299880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05480" y="2989440"/>
            <a:ext cx="7920" cy="9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0" y="23"/>
                </a:moveTo>
                <a:lnTo>
                  <a:pt x="9" y="21"/>
                </a:lnTo>
                <a:lnTo>
                  <a:pt x="17" y="17"/>
                </a:lnTo>
                <a:lnTo>
                  <a:pt x="21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7524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6280" y="2989440"/>
            <a:ext cx="97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6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2600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1628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1340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7800480" y="279072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00840" y="3003480"/>
            <a:ext cx="795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0084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88040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829640" y="2795760"/>
            <a:ext cx="9360" cy="936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00840" y="279576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84224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3" y="2"/>
                </a:lnTo>
                <a:lnTo>
                  <a:pt x="7" y="6"/>
                </a:lnTo>
                <a:lnTo>
                  <a:pt x="1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850160" y="279576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880400" y="2998440"/>
            <a:ext cx="144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800840" y="2998800"/>
            <a:ext cx="1800" cy="468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29640" y="2989440"/>
            <a:ext cx="9360" cy="9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0" y="23"/>
                </a:moveTo>
                <a:lnTo>
                  <a:pt x="8" y="21"/>
                </a:lnTo>
                <a:lnTo>
                  <a:pt x="15" y="17"/>
                </a:lnTo>
                <a:lnTo>
                  <a:pt x="20" y="9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800840" y="2998800"/>
            <a:ext cx="2880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42240" y="2989440"/>
            <a:ext cx="7920" cy="9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0" y="0"/>
                </a:moveTo>
                <a:lnTo>
                  <a:pt x="1" y="9"/>
                </a:lnTo>
                <a:lnTo>
                  <a:pt x="7" y="17"/>
                </a:lnTo>
                <a:lnTo>
                  <a:pt x="13" y="21"/>
                </a:lnTo>
                <a:lnTo>
                  <a:pt x="22" y="23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7850160" y="2998800"/>
            <a:ext cx="3024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42240" y="2805120"/>
            <a:ext cx="144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839000" y="2805120"/>
            <a:ext cx="1800" cy="1843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14840" y="3003480"/>
            <a:ext cx="144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842240" y="3056040"/>
            <a:ext cx="15840" cy="2422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61448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614840" y="3003120"/>
            <a:ext cx="32259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54120" y="2795760"/>
            <a:ext cx="97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67080" y="2795760"/>
            <a:ext cx="936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36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49696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336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54120" y="2919240"/>
            <a:ext cx="97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67080" y="2919240"/>
            <a:ext cx="936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36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496960" y="292716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336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247608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3600" y="293364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6708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47608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33600" y="2790720"/>
            <a:ext cx="6336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638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29080" y="2795760"/>
            <a:ext cx="936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0" y="14"/>
                </a:lnTo>
                <a:lnTo>
                  <a:pt x="15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41680" y="2795760"/>
            <a:ext cx="97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8200" y="2790720"/>
            <a:ext cx="180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7192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82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529080" y="2919240"/>
            <a:ext cx="936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8" y="21"/>
                </a:lnTo>
                <a:lnTo>
                  <a:pt x="15" y="15"/>
                </a:lnTo>
                <a:lnTo>
                  <a:pt x="20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41680" y="2919240"/>
            <a:ext cx="97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8200" y="2927520"/>
            <a:ext cx="180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7192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5082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355104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8200" y="293364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41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55104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507840" y="2790720"/>
            <a:ext cx="637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3844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8008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21"/>
                </a:moveTo>
                <a:lnTo>
                  <a:pt x="20" y="14"/>
                </a:lnTo>
                <a:lnTo>
                  <a:pt x="16" y="6"/>
                </a:lnTo>
                <a:lnTo>
                  <a:pt x="8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92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0"/>
                </a:moveTo>
                <a:lnTo>
                  <a:pt x="14" y="2"/>
                </a:lnTo>
                <a:lnTo>
                  <a:pt x="7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595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7214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595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68008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8" y="21"/>
                </a:lnTo>
                <a:lnTo>
                  <a:pt x="16" y="15"/>
                </a:lnTo>
                <a:lnTo>
                  <a:pt x="20" y="9"/>
                </a:lnTo>
                <a:lnTo>
                  <a:pt x="23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92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0"/>
                </a:moveTo>
                <a:lnTo>
                  <a:pt x="2" y="9"/>
                </a:lnTo>
                <a:lnTo>
                  <a:pt x="7" y="15"/>
                </a:lnTo>
                <a:lnTo>
                  <a:pt x="14" y="21"/>
                </a:lnTo>
                <a:lnTo>
                  <a:pt x="22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6595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7214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595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700600" y="292752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595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9268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700600" y="2795760"/>
            <a:ext cx="2088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56595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8800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54680" y="2795760"/>
            <a:ext cx="7920" cy="9360"/>
          </a:xfrm>
          <a:custGeom>
            <a:avLst/>
            <a:gdLst/>
            <a:ahLst/>
            <a:rect l="l" t="t" r="r" b="b"/>
            <a:pathLst>
              <a:path w="22" h="21">
                <a:moveTo>
                  <a:pt x="22" y="21"/>
                </a:moveTo>
                <a:lnTo>
                  <a:pt x="21" y="14"/>
                </a:lnTo>
                <a:lnTo>
                  <a:pt x="15" y="6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67640" y="2795760"/>
            <a:ext cx="7920" cy="9360"/>
          </a:xfrm>
          <a:custGeom>
            <a:avLst/>
            <a:gdLst/>
            <a:ahLst/>
            <a:rect l="l" t="t" r="r" b="b"/>
            <a:pathLst>
              <a:path w="23" h="21">
                <a:moveTo>
                  <a:pt x="23" y="0"/>
                </a:moveTo>
                <a:lnTo>
                  <a:pt x="14" y="2"/>
                </a:lnTo>
                <a:lnTo>
                  <a:pt x="6" y="6"/>
                </a:lnTo>
                <a:lnTo>
                  <a:pt x="2" y="14"/>
                </a:lnTo>
                <a:lnTo>
                  <a:pt x="0" y="21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416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6796080" y="2790720"/>
            <a:ext cx="1440" cy="50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416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54680" y="2919240"/>
            <a:ext cx="7920" cy="8280"/>
          </a:xfrm>
          <a:custGeom>
            <a:avLst/>
            <a:gdLst/>
            <a:ahLst/>
            <a:rect l="l" t="t" r="r" b="b"/>
            <a:pathLst>
              <a:path w="22" h="22">
                <a:moveTo>
                  <a:pt x="0" y="22"/>
                </a:moveTo>
                <a:lnTo>
                  <a:pt x="9" y="21"/>
                </a:lnTo>
                <a:lnTo>
                  <a:pt x="15" y="15"/>
                </a:lnTo>
                <a:lnTo>
                  <a:pt x="21" y="9"/>
                </a:lnTo>
                <a:lnTo>
                  <a:pt x="22" y="0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67640" y="2919240"/>
            <a:ext cx="7920" cy="828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0"/>
                </a:moveTo>
                <a:lnTo>
                  <a:pt x="2" y="9"/>
                </a:lnTo>
                <a:lnTo>
                  <a:pt x="6" y="15"/>
                </a:lnTo>
                <a:lnTo>
                  <a:pt x="14" y="21"/>
                </a:lnTo>
                <a:lnTo>
                  <a:pt x="23" y="22"/>
                </a:lnTo>
              </a:path>
            </a:pathLst>
          </a:custGeom>
          <a:solidFill>
            <a:srgbClr val="ffffff"/>
          </a:solidFill>
          <a:ln w="7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34160" y="292752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96080" y="2927160"/>
            <a:ext cx="1440" cy="6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3416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775200" y="292752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34160" y="293364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67640" y="2805120"/>
            <a:ext cx="144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775200" y="2795760"/>
            <a:ext cx="20520" cy="144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734160" y="2790720"/>
            <a:ext cx="61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62600" y="2805120"/>
            <a:ext cx="1800" cy="11412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1390680" y="3003120"/>
            <a:ext cx="3224160" cy="2475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2280000">
            <a:off x="47602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2280000">
            <a:off x="1534680" y="343512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9320000">
            <a:off x="14194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9320000">
            <a:off x="4645080" y="4527360"/>
            <a:ext cx="166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Univers"/>
              </a:rPr>
              <a:t>2 x L8 x 8 x 3/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6120" y="5659560"/>
            <a:ext cx="1523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00"/>
                </a:solidFill>
                <a:uFillTx/>
                <a:latin typeface="Univers"/>
              </a:rPr>
              <a:t>Ele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ion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ase Study is intended as practical, simple problem that will serve as the theme for the entire workshop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should help you relate everything you learn during this workshop to your translator developmen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y participating in the Workshop Sessions based on the Case Study exercise, you will become familiar with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bjectives of the Case Stud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identify limitations of your applic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assess the scope of data you may need to exchange to satisfy the needs of end-user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te - end-users may be exchanging data at any point in the supply chai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20" y="878040"/>
            <a:ext cx="90043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s of Reco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rk Holland (Lead Engineer)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even Hamburg (Assistant Engine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gineering Consulting Compa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mburg Consulting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abrica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xton &amp; Vierling Ste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rchitec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rlos Aguera Aesthetics, LL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wn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atson, Crowley, Hamburg &amp; Holland Enterprises, In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ject Inform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urpose of Struc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support two coffee extractors for a food &amp; beverage fac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iami, F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Wind condi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ust be designed for 100-year hurrican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y of the Fram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frame consists of a single story, one bay in width by two bays in leng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distance from the bottom of the base plate to the top of the beam flanges (T.O.S) is 25 fe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runs East / Wes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single width of the structure runs North / Sout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width of the structure is 25 feet (centre-to-centre of girders)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length of the structure consists of two bays, each 30 feet in length (centre-to-centre of girders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re are two in-fill beams in each bay running North / South. These in-fill beams are located at 10 feet on cent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rac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izontal cross brac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to be used in both bays using structural tees with stem pointing downw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western-most bay will start at the Southwest corner and run to the north-eastern corne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horizontal bracing in the eastern-most bay will start at the Northwest corner and run to the south-eastern corne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Vert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"X" braced using double angl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e work points for the bracing is the gravity axis of all connected elements except the angle bracing. The work line will be the angles' gage lin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ach 25 foot spanning bay (girder running North / South) makes a rigid connection to the supporting column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eam end connection is designed to fully develop the member's capacity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brace end connections will be designed to develop ½ of the member's axial capacity or as required by the applied load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nnection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horizontal bracing members are to be bolted to the in-fill beams as they run under the in-fill beams using filler plates as necessary.  The horizontal bracing members are connected to the in-fill beams framing at the column locations with ½" thick gusset plates and (4) four A325 ¾" bol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in-fill beams' end connections are to be designed to develop ½ of the member's allowable bending capacity. The connections shall consist of using shear tab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he column bases will not be designed to transfer any mo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19:28:51Z</dcterms:created>
  <dc:creator>Andrew Crowley</dc:creator>
  <dc:description/>
  <dc:language>en-US</dc:language>
  <cp:lastModifiedBy>Andrew Crowley</cp:lastModifiedBy>
  <cp:lastPrinted>1999-02-12T12:33:41Z</cp:lastPrinted>
  <dcterms:modified xsi:type="dcterms:W3CDTF">2000-04-02T22:09:11Z</dcterms:modified>
  <cp:revision>3</cp:revision>
  <dc:subject/>
  <dc:title>CIS/2 Implementation Workshop III,  3-7 April 2000, Ascot</dc:title>
</cp:coreProperties>
</file>